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02B6-AAE8-49E4-96F1-6F44D3C5D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D774-2ED2-4A37-A695-F313AAD82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0FA-1BED-49E0-A4BF-A1C62A2C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ABB-684B-4731-B8BC-05C57F30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94B-DD29-4928-89E6-03D7B0A6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A2E-D22F-4106-8B89-691FFF4A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309-4AEB-45EB-BE79-A47C6DA2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C70-568A-4FC6-960B-3110A651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0F4-6E72-4E09-891D-523E9038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56F-9360-4D1B-91AF-54456F69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55F-8C20-4756-ACCD-4CC3D1E7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B49-5BE6-48CD-BF49-87C085A0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BA6-380A-4432-86DA-9B214CF2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1786-30F0-41C9-9661-C0D68602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FD1B-428D-438B-864D-FF78A24B4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sbah A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isbah Aw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isbah Awan (25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isbah Aw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isbah Aw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39852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 (25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as tardes! I am going to a party (to be translated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la! Mi nombre es Misbah y yo vivo en NYC. Tengo 14 años. Tengo tres hermanos. Sus nombres son Ammar y Huzayfah y Marwaan. Yo les amos. Yo soy joven y alto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8:05Z</dcterms:modified>
  <cp:revision>106</cp:revision>
  <dc:subject/>
  <dc:title>Profile</dc:title>
</cp:coreProperties>
</file>